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5DFE-3C1D-4980-8ECF-5DD43BE2DE6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C4AB-B76C-4B00-A853-888F755207D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F682-770C-4EA2-9C90-036F8DAB046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AA9B-83B2-4C34-A554-A4C8704EA13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8A8-92EC-4873-9843-04C6876A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6E6-6630-4285-84DE-4D13865D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1AF5-EB72-48EB-B5A9-C7BCCB5C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719-5BC9-450D-BB2C-2AD755B1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FE9-B80E-408E-B59A-DF86B521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AC5-632A-4DC2-B421-F6E386DE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71A-4BE6-4A84-8FED-ED3168ED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540E-0FD0-45EB-A493-03B6AE5F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EB7-9C93-4BB9-8608-3D8BE791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6C96-AC57-42BC-8B52-F7D4EEA4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C8D-145E-45AD-93C4-5997FD59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94F-25E9-4CEA-AFDD-194F9EA3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0D32-D91F-4D56-B306-5BD6888BD2D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8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sellaDiTesto 10"/>
          <p:cNvSpPr/>
          <p:nvPr/>
        </p:nvSpPr>
        <p:spPr>
          <a:xfrm>
            <a:off x="4857840" y="214200"/>
            <a:ext cx="4143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6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9"/>
          <p:cNvSpPr/>
          <p:nvPr/>
        </p:nvSpPr>
        <p:spPr>
          <a:xfrm>
            <a:off x="0" y="33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b60ae"/>
                </a:solidFill>
                <a:latin typeface="Arial"/>
              </a:rPr>
              <a:t>Corso “Formatori”: informazioni log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mmagine 11" descr="LOGO_Facolt_.jpg"/>
          <p:cNvPicPr/>
          <p:nvPr/>
        </p:nvPicPr>
        <p:blipFill>
          <a:blip r:embed="rId1"/>
          <a:stretch/>
        </p:blipFill>
        <p:spPr>
          <a:xfrm>
            <a:off x="6357960" y="2139840"/>
            <a:ext cx="1962000" cy="1479600"/>
          </a:xfrm>
          <a:prstGeom prst="rect">
            <a:avLst/>
          </a:prstGeom>
          <a:ln w="0">
            <a:noFill/>
          </a:ln>
        </p:spPr>
      </p:pic>
      <p:sp>
        <p:nvSpPr>
          <p:cNvPr id="53" name="CasellaDiTesto 12"/>
          <p:cNvSpPr/>
          <p:nvPr/>
        </p:nvSpPr>
        <p:spPr>
          <a:xfrm>
            <a:off x="6357960" y="3568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ia Felice Casorati, 43 37131 - Ve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rcRect l="43214" t="41993" r="1122" b="11132"/>
          <a:stretch/>
        </p:blipFill>
        <p:spPr>
          <a:xfrm>
            <a:off x="285840" y="1285920"/>
            <a:ext cx="5786280" cy="3654360"/>
          </a:xfrm>
          <a:prstGeom prst="rect">
            <a:avLst/>
          </a:prstGeom>
          <a:ln w="0">
            <a:noFill/>
          </a:ln>
        </p:spPr>
      </p:pic>
      <p:sp>
        <p:nvSpPr>
          <p:cNvPr id="55" name="CasellaDiTesto 14"/>
          <p:cNvSpPr/>
          <p:nvPr/>
        </p:nvSpPr>
        <p:spPr>
          <a:xfrm>
            <a:off x="285840" y="50720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istanz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sellaDiTesto 15"/>
          <p:cNvSpPr/>
          <p:nvPr/>
        </p:nvSpPr>
        <p:spPr>
          <a:xfrm>
            <a:off x="316080" y="5467320"/>
            <a:ext cx="282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tazione ferroviaria Verona Portanuova circa 6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sellaDiTesto 16"/>
          <p:cNvSpPr/>
          <p:nvPr/>
        </p:nvSpPr>
        <p:spPr>
          <a:xfrm>
            <a:off x="343080" y="5884920"/>
            <a:ext cx="292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eroporto Valerio Catullo di Verona Villafranca circa 11km 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ttangolo 8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sellaDiTesto 10"/>
          <p:cNvSpPr/>
          <p:nvPr/>
        </p:nvSpPr>
        <p:spPr>
          <a:xfrm>
            <a:off x="4857840" y="214200"/>
            <a:ext cx="4143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magine 10" descr="57403,1202079654,2.jpg"/>
          <p:cNvPicPr/>
          <p:nvPr/>
        </p:nvPicPr>
        <p:blipFill>
          <a:blip r:embed="rId1"/>
          <a:srcRect l="5328" t="5979" r="78740" b="67187"/>
          <a:stretch/>
        </p:blipFill>
        <p:spPr>
          <a:xfrm>
            <a:off x="6143760" y="2422440"/>
            <a:ext cx="523800" cy="785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rcRect l="43949" t="41998" r="2587" b="15039"/>
          <a:stretch/>
        </p:blipFill>
        <p:spPr>
          <a:xfrm>
            <a:off x="120600" y="1285920"/>
            <a:ext cx="5808600" cy="3502080"/>
          </a:xfrm>
          <a:prstGeom prst="rect">
            <a:avLst/>
          </a:prstGeom>
          <a:ln w="0">
            <a:noFill/>
          </a:ln>
        </p:spPr>
      </p:pic>
      <p:sp>
        <p:nvSpPr>
          <p:cNvPr id="63" name="CasellaDiTesto 11"/>
          <p:cNvSpPr/>
          <p:nvPr/>
        </p:nvSpPr>
        <p:spPr>
          <a:xfrm>
            <a:off x="6715080" y="2308320"/>
            <a:ext cx="25002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00"/>
                </a:solidFill>
                <a:latin typeface="Calibri"/>
              </a:rPr>
              <a:t>Holiday Inn Ve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ia Unità d'Italia, 346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37132 Verona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el.: +39 045 8952501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x: +39 045 9726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sellaDiTesto 17"/>
          <p:cNvSpPr/>
          <p:nvPr/>
        </p:nvSpPr>
        <p:spPr>
          <a:xfrm>
            <a:off x="6072120" y="5275440"/>
            <a:ext cx="2928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Aere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all'Aeroporto Catullo-Villafranca è possibile raggiungere l'albergo con un taxi il cui costo approssimativo è di € 35,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istanza: 25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sellaDiTesto 18"/>
          <p:cNvSpPr/>
          <p:nvPr/>
        </p:nvSpPr>
        <p:spPr>
          <a:xfrm>
            <a:off x="3214800" y="5286240"/>
            <a:ext cx="2786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Auto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all'Autostrada A4 direzione Venezia uscire a Verona Est quindi proseguire per Verona, dopo il primo holiday inn a 3 km l'hotel è visibile sulla sini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asellaDiTesto 19"/>
          <p:cNvSpPr/>
          <p:nvPr/>
        </p:nvSpPr>
        <p:spPr>
          <a:xfrm>
            <a:off x="142920" y="5286240"/>
            <a:ext cx="292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Treno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alla stazione ferroviaria Verona Portanuova è possibile raggiungere l’albergo con l’autobus cittadino n.11 oppure con un taxi il cui costo approssimativo e di €15,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istanza: 7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sellaDiTesto 20"/>
          <p:cNvSpPr/>
          <p:nvPr/>
        </p:nvSpPr>
        <p:spPr>
          <a:xfrm>
            <a:off x="142920" y="485784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ome arriv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sellaDiTesto 12"/>
          <p:cNvSpPr/>
          <p:nvPr/>
        </p:nvSpPr>
        <p:spPr>
          <a:xfrm>
            <a:off x="0" y="33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b60ae"/>
                </a:solidFill>
                <a:latin typeface="Arial"/>
              </a:rPr>
              <a:t>Corso “Formatori”: informazioni log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ttangolo 8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sellaDiTesto 10"/>
          <p:cNvSpPr/>
          <p:nvPr/>
        </p:nvSpPr>
        <p:spPr>
          <a:xfrm>
            <a:off x="4857840" y="214200"/>
            <a:ext cx="4143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6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sellaDiTesto 15"/>
          <p:cNvSpPr/>
          <p:nvPr/>
        </p:nvSpPr>
        <p:spPr>
          <a:xfrm>
            <a:off x="6643800" y="1785960"/>
            <a:ext cx="214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sellaDiTesto 21"/>
          <p:cNvSpPr/>
          <p:nvPr/>
        </p:nvSpPr>
        <p:spPr>
          <a:xfrm>
            <a:off x="6500880" y="1357200"/>
            <a:ext cx="242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: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Holiday Inn Ve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Via Unità d’Italia, 3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37132 Ver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Tel.: 04589525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sellaDiTesto 22"/>
          <p:cNvSpPr/>
          <p:nvPr/>
        </p:nvSpPr>
        <p:spPr>
          <a:xfrm>
            <a:off x="6500880" y="2643120"/>
            <a:ext cx="242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: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acoltà di Scien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z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torie di Ve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Via Felice Casorati, 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371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rcRect l="43410" t="42190" r="926" b="10940"/>
          <a:stretch/>
        </p:blipFill>
        <p:spPr>
          <a:xfrm>
            <a:off x="117360" y="1785960"/>
            <a:ext cx="6221520" cy="3929040"/>
          </a:xfrm>
          <a:prstGeom prst="rect">
            <a:avLst/>
          </a:prstGeom>
          <a:ln w="0">
            <a:noFill/>
          </a:ln>
        </p:spPr>
      </p:pic>
      <p:sp>
        <p:nvSpPr>
          <p:cNvPr id="76" name="CasellaDiTesto 23"/>
          <p:cNvSpPr/>
          <p:nvPr/>
        </p:nvSpPr>
        <p:spPr>
          <a:xfrm>
            <a:off x="6500880" y="3943440"/>
            <a:ext cx="242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: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Stazione di Verona Portanu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iazzale XXV Apr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sellaDiTesto 24"/>
          <p:cNvSpPr/>
          <p:nvPr/>
        </p:nvSpPr>
        <p:spPr>
          <a:xfrm>
            <a:off x="6500880" y="4933800"/>
            <a:ext cx="242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: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eroporto Valerio Catullo di Verona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Villafranca  37060 Caselle di Sommacampag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sellaDiTesto 25"/>
          <p:cNvSpPr/>
          <p:nvPr/>
        </p:nvSpPr>
        <p:spPr>
          <a:xfrm>
            <a:off x="0" y="33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b60ae"/>
                </a:solidFill>
                <a:latin typeface="Arial"/>
              </a:rPr>
              <a:t>Corso “Formatori”: informazioni log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admin</dc:creator>
  <dc:description/>
  <dc:language>en-US</dc:language>
  <cp:lastModifiedBy>Antonio Lentini</cp:lastModifiedBy>
  <dcterms:modified xsi:type="dcterms:W3CDTF">2010-01-15T10:59:52Z</dcterms:modified>
  <cp:revision>20</cp:revision>
  <dc:subject/>
  <dc:title>Diapositiva 1</dc:title>
</cp:coreProperties>
</file>